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216FB-DFE1-43FA-A09A-F248186B1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E9042-EC40-4017-9161-2FF0DC41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EE399-A2D3-4A5F-BA01-AD8BD8D11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BA596-7AE7-4EB2-84E5-9E1728EECB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4D17DF-ECC1-4E03-A006-4AF48D65E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E9A23-3623-48B7-A51E-BA6D4CDAA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F028CE-A223-4D4E-B209-50D74CA78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2D6F1-1BAB-4B3B-A058-4DC050CEA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9C34E-AEEF-4EF5-8510-6864C3770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30CA48-F710-4092-8B9C-8FDD9B3F14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B940C9-9B23-424C-8AA6-9348AFA2AB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289FB-DDFE-4A5A-A5F8-116528F98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099CF-7A8E-47D5-B47B-70B2BC1DF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FFDCA-4386-4F03-A090-157439F0F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4308F-2449-4974-87BB-18F151469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460A5-0374-49F8-A493-4DD14D7DD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96FB4-BB33-4F30-9B01-AC743F35D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8C0F9-3892-469B-B785-56A232A03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8BF5F-4DB9-429A-BAF7-93AA71202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1355-BAB4-4D17-957B-160DA207D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3E12F-5D2E-4D3A-8254-4BA66CC2E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C6269-E54D-4236-A5AC-BEE6C12F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60B06-E04A-45E6-BEDE-4410C3C0F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9380A-A407-4930-9DCC-B88A16B87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F2924-F789-4ED5-85D5-C1541D97E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2B2DE-0D92-4211-954A-978278E26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04FE2-B8A4-49E8-B338-174CD32C35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BC394-78BF-4DF7-8259-2E766F29F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121D9-76DC-407E-976B-A68829E69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001C6-6CF4-496C-BD00-467944B66B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5200E-A6E8-4EA9-9EB7-91BCD1B78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9547-11D3-480B-A39B-CDE8817FF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8EBBA-7901-415A-993B-12D31220F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BF0E6-B3D0-4435-B59B-68AD0D0B5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85A21-273F-49C3-8FA4-0C284FBE3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A5A0F-C2AD-4325-9C15-AA7081916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CDA01-D5EE-4518-B1CF-DAFBFCE48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47C2EC-16E9-463B-9D5B-FC489C0A8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DE2AF-E634-4EA4-B372-4D6003910B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E55F0E-0CED-4859-A8BF-58A1D767E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A148D-A31D-45F5-9AA9-9B5FA7845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C7B3E-4FA7-4C4A-9568-208897026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97202-B3C8-4DB3-89B0-B5F344774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2140C-1429-4639-9846-69EBE556C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8C992-D900-4F68-BEB3-8A9A58A4B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F6582-85D8-4BCF-A364-E27775316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4A281-9DFC-492C-959D-487BD523F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BC3BD-149E-4179-94B6-D3DF0802B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F9B30-4F23-4CE4-836C-11905C54F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CF019-8187-409A-83F9-7C7E13367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24EA67-EBF6-4076-8F63-697FE614C7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1F208B-65E2-4321-B79C-D95AF2833D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FF496B-635E-4B6C-AA38-DAA4EBC49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DDBE-1EE5-4B9D-9E10-2D575BF6D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B2A1F2-4E23-4EEB-B9DD-3F515D008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27BAB-F3AD-4A3E-A3CA-6384CAEC2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0D24E-B02C-483E-948A-F8D87172F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91163-5AD2-40B8-AE0D-94A403EAC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EAF23-6246-4F14-B750-ECDCA4CC9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27900-7344-4BEF-8062-501D159C1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FBD06-55A4-49F9-8885-EF1C0A87B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5BDC6-38A0-4474-938A-6FC65D1AC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EECCF-0D93-4CF8-8CC5-3C1421060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B7C610-1BAE-406B-B7BD-626DB9C49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7D36D-B841-4EDF-AD3D-7A19974FE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89E36B-3F47-4E05-BC77-CDEFF32F86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A7FCC7-81CE-4C5C-9DF2-0DA6C4AF0E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B09FEB-5FE9-4443-B49D-E6B613063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A0338A-2962-45B8-BC5F-A8B750CAE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20BAA-9F7D-44CB-AE34-559283877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03BDCE-2E2B-434F-BAD2-4EF79FB51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F767F6-E425-4A05-A80C-DFDD4D891A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977EC-9069-42A8-8104-32AC1FA40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C47B0-73BB-4BA8-8882-212BA3742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49E2B-AFA0-4620-AD09-BBF8CE42A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BFA6-6178-443B-9198-9A8681DC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29985-DFDA-4DAA-BEA7-4A80DD737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CA76F6-47E9-4365-BEC5-0144D95BD8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7A8F87-D053-42B1-9AE8-085B657332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FDDA2C-8FA0-4488-87AE-694D584FC6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345DF-6717-4869-ACA2-95B5707D0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F6F752-3D75-42A1-A555-EAFF7498A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95CEA-118B-4E19-A1F9-9BA61CA65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3E234-0B00-4B18-B1C8-83D496BAD3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74D0A-0D49-4E41-9700-DBCA1B14D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D0D94-3D25-493B-BA97-ACC9C7251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FB86F-6D8A-4EA3-A949-992E0916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116D5-7189-47D2-98B1-B17F32C9CD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750FF-A3D5-4407-8CF3-8B9D151E7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52CB8-B215-4D4F-AB46-9850D3DD1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387437-F8F0-4CDD-8374-41B00331D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ADA30C-4E73-4FA8-8932-8F221F625A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E8C8CD-8A22-49D1-B2D6-8718F9DDE1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F0526-CC36-4FC2-8EC9-CA9D2574F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97D09-E7D6-4F22-ADB2-CCB891AAA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1BB44-9FC7-47FD-81E5-714FDB034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D314A9-609B-45D5-B6B6-1B1CEBA57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57A7-06C3-4940-9B59-C50013AE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96F8F6-4924-4E37-BF52-022C21DEB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8FDCD-D6E6-4D65-BA20-DB90FDF854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7E999-422F-4EA7-8187-BCDF310AD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556EC-522A-4A56-BCE3-3CDC7FDE8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29FDB-44D6-4F12-8D3D-ADCFDAC51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8297A7-1D78-4B26-A79E-87BF04E8FA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5A6BA5-20D9-4B87-B01C-C21586892D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D535EB-01CE-4E6E-992A-8E213DFA6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A39932-063B-49E5-8754-2D9D14FAA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6"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5BEBE3-C9F9-4CEB-96A1-0A0928B978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18402-72BC-45C6-9AD6-BAD7258F8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FF786-8C1C-42D8-8145-526768CA1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83"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B8A3C-2292-462F-BB72-8E59DCCB6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FDD9BD-8EAA-4277-B5E9-CD05522596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CA563-5A63-4A2F-87F2-4D476FCBBD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6227640"/>
            <a:ext cx="906768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06" name="PlaceHolder 2"/>
          <p:cNvSpPr>
            <a:spLocks noGrp="1"/>
          </p:cNvSpPr>
          <p:nvPr>
            <p:ph type="body"/>
          </p:nvPr>
        </p:nvSpPr>
        <p:spPr>
          <a:xfrm>
            <a:off x="503280" y="791640"/>
            <a:ext cx="9067680" cy="41403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53769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6280" y="537696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4480" y="537696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5F3A0C-DAD5-4FA1-A2CE-852EEB851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47" name="PlaceHolder 2"/>
          <p:cNvSpPr>
            <a:spLocks noGrp="1"/>
          </p:cNvSpPr>
          <p:nvPr>
            <p:ph type="body"/>
          </p:nvPr>
        </p:nvSpPr>
        <p:spPr>
          <a:xfrm>
            <a:off x="503280" y="2165400"/>
            <a:ext cx="9067680" cy="427824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502920" y="6997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446280" y="6997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7224480" y="6997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034E4B-45FA-4841-889A-46BB7E8D6E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8" name="PlaceHolder 2"/>
          <p:cNvSpPr>
            <a:spLocks noGrp="1"/>
          </p:cNvSpPr>
          <p:nvPr>
            <p:ph type="body"/>
          </p:nvPr>
        </p:nvSpPr>
        <p:spPr>
          <a:xfrm>
            <a:off x="503280" y="2160720"/>
            <a:ext cx="90676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406EF-1A7E-4D23-B102-B2664FDFBE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41C89-CDB6-486E-9DD8-8336B56D5A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03280" y="301680"/>
            <a:ext cx="9069480" cy="61434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Boston Massacre</a:t>
            </a:r>
            <a:endParaRPr b="0" lang="en-US" sz="3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oey C.</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Tyler V.</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Mike L.</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Haley S.</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acob S.</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ff"/>
                </a:solidFill>
                <a:latin typeface="Arial"/>
              </a:rPr>
              <a:t>Who Did It Happen To?</a:t>
            </a:r>
            <a:endParaRPr b="1" lang="en-US" sz="4400" spc="-1" strike="noStrike">
              <a:solidFill>
                <a:srgbClr val="ffffff"/>
              </a:solidFill>
              <a:latin typeface="Arial"/>
            </a:endParaRPr>
          </a:p>
        </p:txBody>
      </p:sp>
      <p:sp>
        <p:nvSpPr>
          <p:cNvPr id="371" name="PlaceHolder 2"/>
          <p:cNvSpPr>
            <a:spLocks noGrp="1"/>
          </p:cNvSpPr>
          <p:nvPr>
            <p:ph type="subTitle"/>
          </p:nvPr>
        </p:nvSpPr>
        <p:spPr>
          <a:xfrm>
            <a:off x="502920" y="2165400"/>
            <a:ext cx="9069480" cy="427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conflict started between the British Settlers and the Boston colonists. The people who were killed in this fight were Crispus Attucks a sailor and a slave escape,Samuel Gray a rope maker,James Caldwell a sailor ,Samuel Maverick a 17 year old apprentice,and Patrick Carr a leather worker and Irish immigran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373" name="PlaceHolder 2"/>
          <p:cNvSpPr>
            <a:spLocks noGrp="1"/>
          </p:cNvSpPr>
          <p:nvPr>
            <p:ph type="subTitle"/>
          </p:nvPr>
        </p:nvSpPr>
        <p:spPr>
          <a:xfrm>
            <a:off x="998280" y="185076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ile in Boston many colonists </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lieved that British government had sent troops to silence it's critics. Both sides disliked each other. Then a colonists got into a fight with a solider. After this the soldier's fired into the crowd killing several peop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000080"/>
            </a:gs>
            <a:gs pos="100000">
              <a:srgbClr val="800000"/>
            </a:gs>
          </a:gsLst>
          <a:lin ang="36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7440"/>
            <a:ext cx="906948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hen Did It Happen?</a:t>
            </a:r>
            <a:br>
              <a:rPr sz="4400"/>
            </a:br>
            <a:endParaRPr b="0" lang="en-US" sz="4400" spc="-1" strike="noStrike">
              <a:solidFill>
                <a:srgbClr val="000000"/>
              </a:solidFill>
              <a:latin typeface="Arial"/>
            </a:endParaRPr>
          </a:p>
        </p:txBody>
      </p:sp>
      <p:sp>
        <p:nvSpPr>
          <p:cNvPr id="375" name="PlaceHolder 2"/>
          <p:cNvSpPr>
            <a:spLocks noGrp="1"/>
          </p:cNvSpPr>
          <p:nvPr>
            <p:ph type="subTitle"/>
          </p:nvPr>
        </p:nvSpPr>
        <p:spPr>
          <a:xfrm>
            <a:off x="502920" y="2209680"/>
            <a:ext cx="9069480" cy="418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Boston Massacre happened on March 5,1770.</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19280" y="717480"/>
            <a:ext cx="845640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Arial"/>
              </a:rPr>
              <a:t>Where Did It Happen?</a:t>
            </a:r>
            <a:endParaRPr b="0" lang="en-US" sz="4400" spc="-1" strike="noStrike">
              <a:solidFill>
                <a:srgbClr val="000000"/>
              </a:solidFill>
              <a:latin typeface="Arial"/>
            </a:endParaRPr>
          </a:p>
        </p:txBody>
      </p:sp>
      <p:sp>
        <p:nvSpPr>
          <p:cNvPr id="377" name="PlaceHolder 2"/>
          <p:cNvSpPr>
            <a:spLocks noGrp="1"/>
          </p:cNvSpPr>
          <p:nvPr>
            <p:ph type="subTitle"/>
          </p:nvPr>
        </p:nvSpPr>
        <p:spPr>
          <a:xfrm>
            <a:off x="1142640" y="91404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Boston Massacre took place in Bost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33660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y Did It Happen,And What Was The Outcome?</a:t>
            </a:r>
            <a:endParaRPr b="0" lang="en-US" sz="4400" spc="-1" strike="noStrike">
              <a:solidFill>
                <a:srgbClr val="000000"/>
              </a:solidFill>
              <a:latin typeface="Arial"/>
            </a:endParaRPr>
          </a:p>
        </p:txBody>
      </p:sp>
      <p:sp>
        <p:nvSpPr>
          <p:cNvPr id="379" name="PlaceHolder 2"/>
          <p:cNvSpPr>
            <a:spLocks noGrp="1"/>
          </p:cNvSpPr>
          <p:nvPr>
            <p:ph type="subTitle"/>
          </p:nvPr>
        </p:nvSpPr>
        <p:spPr>
          <a:xfrm>
            <a:off x="502920" y="1571400"/>
            <a:ext cx="9069480" cy="546876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Boston Massacre occurred because British soldiers were provoked by the colonists of Boston when they threw snowballs at the soldiers. This led to the death 5 colonists when British soldiers panicked and fired shots into the crowd. This all happened because the colonists didn't want the soldiers in their city and were unhappy about the different acts passed by the British. Furthermore, the colonists despised the increased troop concentration in the city of Boston used to enforce the collection of taxes. The British soldiers also took many jobs from the Bostonian 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3:09:17Z</dcterms:created>
  <dc:creator/>
  <dc:description/>
  <dc:language>en-US</dc:language>
  <cp:lastModifiedBy/>
  <dcterms:modified xsi:type="dcterms:W3CDTF">2009-12-17T13:14:39Z</dcterms:modified>
  <cp:revision>10</cp:revision>
  <dc:subject/>
  <dc:title/>
</cp:coreProperties>
</file>