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EE901-1425-4FAA-A053-E13E8C37A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DD73-BA84-41B4-AD38-F95742BB0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4D4B5-037A-4EBC-8E47-35D6E22BD5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CF998E-FB1E-4B38-9469-60ECBD6BD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C96E0-7DA4-4F9D-8F28-25C7C32C4C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E2925-CAE8-4994-AAF2-DD3E2250E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9"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667F9D-1BC0-4371-8316-A80BB0AA5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3"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BCF66-187B-4BE2-8231-DBF8F64FC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37BD1-DC7F-4654-881C-16456A2BA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1"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FE3BB2-978D-446E-8C5B-FE37CED669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3"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5"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26F54-95CA-4CEE-876E-7D2AC3A5A4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A69CB-0E95-4287-89A0-B21C3319E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4B2F0-FF9E-4F0A-81CF-7C33716C8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AE6A9-85E0-45BF-8C82-4B67F2D59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2EB7A-DD49-4A9A-8D4E-F295115DD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1C4C0-32F0-417B-BA87-F8248A3EC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DDEAA-B33B-4350-A65A-8921A7EF7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EB796-878A-4F27-AFAD-D3288DC97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077FC-684B-4141-9EC2-839EC4723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734D-2050-4113-B681-CE6992263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A6DA-E46B-4A32-9E7E-80873CA3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CE8BB-E36F-4063-84AB-2EE4B263D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79FA9-0FF8-4087-8D81-933CCD15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5F150-1C73-4D56-B47D-15DEE30A2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3ECB0-012A-4D1B-84C3-BA4F8AE2A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1C6AD-D797-4A96-940D-5DC2A1D78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2A74E-ECD6-4BA0-9269-0F3F88AD84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29930-AD15-41C4-A390-EE4EA4F21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AF9E8-AC59-40D0-A74A-BE6B694FC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559A5-D19D-4682-A660-DA2400229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192AC-BE67-4F29-9EDE-78F7AD89E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2F1F-4095-4442-8CCD-E542DF7B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C1E2C-3D04-40B9-B8EE-BC5C5BB6A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2E72C-303C-40EE-A32B-EA2B7A6D2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9BB2D-6076-4836-A4FD-0B83579B2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BE842-9F64-4902-9F1E-75132ECAF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FA852-1C1D-4590-BF8B-CB50ACD69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54F100-7CBB-435D-A177-E86CCCBDD7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7"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D832E6-4EFD-48DE-8463-CCFBB7E2A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0E58A8-2535-481F-824B-33FC6FD76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10CA3-3396-485E-A088-7D52703FF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1"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FE057-CB33-4AAD-8365-BB308ECD6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4407-3F79-441C-AC07-F9EF1FD7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B59E3-1AE8-46E7-AF3D-4F25052E3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E261E-5272-4D52-B36D-1CC9BEC3B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B9823-2BAE-423F-BE76-57CD4516B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E5841-2B5B-4DD8-A820-A2346F3DC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96B2C-F12A-4872-819F-D5426A51CB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6BF6E-D92A-462E-AC12-298F4ECAE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5A755-CB64-4C17-90E8-BC1E6CF9B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3C721-AA9E-46D5-BF73-BE206BEF58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3A7DD9-DC1D-45BE-B7FF-2C1042B9B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05185-2820-45D8-9FD9-436840731F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40B3-B539-4E7C-A75B-E21FF5F9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0681B-3389-4DD6-8520-45F3BF1D6A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A1877-397F-4B4C-BCA4-34B273B79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FC463-F1E1-4450-AE75-CC7C9D020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53D3D-FEC5-4B8C-880F-6A802B1C7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29D64-B152-4B1E-8A5C-FE2096DB2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7200E-99AC-48E5-9419-69E878522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73944-6C46-4DBB-B122-53515C9ED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18BCF-468D-46DC-B844-2564BD64A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665C8-61B5-42A7-B204-C2C6A8C19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4"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17672A-6501-42E8-9DA1-C953616443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27F6F-6791-49BC-861B-E7C5522C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9"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5B98BD-8B38-454A-B4CD-A3911E8C5E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8F0BC-2924-4373-9AC3-BDBF9AD4BE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B5CC73-1499-4B94-85A3-1CF0F082B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3"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094BA-BB5A-4A0C-A78B-1D2357CC1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6A333-C901-4479-9C6A-DFE057C8B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76F04-6BDE-4C57-A88E-7B80ACBED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C5E40-5070-41E8-96B3-2B7C110006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59A61-5E4F-45A0-8AFF-BA6342C8E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4"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8AAD5-4FA0-4DC5-8355-E0308560F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8"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CD709-29FD-4831-8E31-3AAF1F333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3FE7-33A9-4A7A-9F98-F723E431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F2B85-6A1A-4BED-BB44-513857239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5"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F6D879-F39B-4290-8677-86CF802543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4"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4303EB-0A93-44AA-AD17-7106C12178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E6DB30-82B7-481E-9DD5-04121FA5E7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C8065-90DE-407F-BBD9-7856ADCEE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4"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988FE-3B02-4F5C-9824-6B1F6549C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73CE0-7F74-4435-B81B-4BBF05970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0D457-44FD-47E6-9C02-7448CC61E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7518B-8EB8-4A8F-8830-CCC012B8C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1"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3"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3071A-81B4-405E-BF4E-EA851B5C0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FFC8-9879-4AAF-8247-0FE732C34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5"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69C12F-89A3-4067-95BC-A01ACB52E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9"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0"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7E4D2-7897-43B6-BDB8-2FC0ECFEF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3"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86383-A794-49BF-AE91-33A18939CC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1B13D1-BA9C-4EF9-B1D5-ACC7FC6AFA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1"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5"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6"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F6CC85-9C62-488F-BAC5-8E9B1DFC4A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97F9AC-ED49-4923-BCCC-EE6D8722F7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8B5787-E731-4FD2-B597-64AA20A02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060F68-657A-4074-8232-B062FBC1A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F7392-5DCB-4170-A261-F35F71A7B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C916C-F66E-40B4-8B6F-4FA92D661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113F-A1BA-410E-A04C-5AB77E863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719280" y="717480"/>
            <a:ext cx="8454960" cy="584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E20B1-5809-4FEE-BA76-6041833A1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2"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513576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83521-5F8B-4CE0-B37C-7D6A51A739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6" name="PlaceHolder 2"/>
          <p:cNvSpPr>
            <a:spLocks noGrp="1"/>
          </p:cNvSpPr>
          <p:nvPr>
            <p:ph/>
          </p:nvPr>
        </p:nvSpPr>
        <p:spPr>
          <a:xfrm>
            <a:off x="1079640" y="-1348200"/>
            <a:ext cx="386244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4"/>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6F429-E450-419F-A198-DB4F9F2D1B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9992F-3C59-498A-99BE-51148A1F98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p:nvPr>
        </p:nvSpPr>
        <p:spPr>
          <a:xfrm>
            <a:off x="1079640" y="-134820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5" name="PlaceHolder 3"/>
          <p:cNvSpPr>
            <a:spLocks noGrp="1"/>
          </p:cNvSpPr>
          <p:nvPr>
            <p:ph/>
          </p:nvPr>
        </p:nvSpPr>
        <p:spPr>
          <a:xfrm>
            <a:off x="1079640" y="908280"/>
            <a:ext cx="791496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680227-BE2D-4B61-9651-757DA56F2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7" name="PlaceHolder 2"/>
          <p:cNvSpPr>
            <a:spLocks noGrp="1"/>
          </p:cNvSpPr>
          <p:nvPr>
            <p:ph/>
          </p:nvPr>
        </p:nvSpPr>
        <p:spPr>
          <a:xfrm>
            <a:off x="107964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3"/>
          <p:cNvSpPr>
            <a:spLocks noGrp="1"/>
          </p:cNvSpPr>
          <p:nvPr>
            <p:ph/>
          </p:nvPr>
        </p:nvSpPr>
        <p:spPr>
          <a:xfrm>
            <a:off x="5135760" y="-134820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4"/>
          <p:cNvSpPr>
            <a:spLocks noGrp="1"/>
          </p:cNvSpPr>
          <p:nvPr>
            <p:ph/>
          </p:nvPr>
        </p:nvSpPr>
        <p:spPr>
          <a:xfrm>
            <a:off x="107964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5"/>
          <p:cNvSpPr>
            <a:spLocks noGrp="1"/>
          </p:cNvSpPr>
          <p:nvPr>
            <p:ph/>
          </p:nvPr>
        </p:nvSpPr>
        <p:spPr>
          <a:xfrm>
            <a:off x="5135760" y="908280"/>
            <a:ext cx="3862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603B67-DFA0-441F-A7BE-2B8E2AA4DC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2" name="PlaceHolder 2"/>
          <p:cNvSpPr>
            <a:spLocks noGrp="1"/>
          </p:cNvSpPr>
          <p:nvPr>
            <p:ph/>
          </p:nvPr>
        </p:nvSpPr>
        <p:spPr>
          <a:xfrm>
            <a:off x="107964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3" name="PlaceHolder 3"/>
          <p:cNvSpPr>
            <a:spLocks noGrp="1"/>
          </p:cNvSpPr>
          <p:nvPr>
            <p:ph/>
          </p:nvPr>
        </p:nvSpPr>
        <p:spPr>
          <a:xfrm>
            <a:off x="375588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4"/>
          <p:cNvSpPr>
            <a:spLocks noGrp="1"/>
          </p:cNvSpPr>
          <p:nvPr>
            <p:ph/>
          </p:nvPr>
        </p:nvSpPr>
        <p:spPr>
          <a:xfrm>
            <a:off x="6432120" y="-134820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5"/>
          <p:cNvSpPr>
            <a:spLocks noGrp="1"/>
          </p:cNvSpPr>
          <p:nvPr>
            <p:ph/>
          </p:nvPr>
        </p:nvSpPr>
        <p:spPr>
          <a:xfrm>
            <a:off x="107964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6"/>
          <p:cNvSpPr>
            <a:spLocks noGrp="1"/>
          </p:cNvSpPr>
          <p:nvPr>
            <p:ph/>
          </p:nvPr>
        </p:nvSpPr>
        <p:spPr>
          <a:xfrm>
            <a:off x="375588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7" name="PlaceHolder 7"/>
          <p:cNvSpPr>
            <a:spLocks noGrp="1"/>
          </p:cNvSpPr>
          <p:nvPr>
            <p:ph/>
          </p:nvPr>
        </p:nvSpPr>
        <p:spPr>
          <a:xfrm>
            <a:off x="6432120" y="908280"/>
            <a:ext cx="2548440" cy="2060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DFE43C-B63C-4DD7-A0F0-EA738DC837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BB1E35-F3A3-48AD-AA72-DD9EA71208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1079640" y="-1348200"/>
            <a:ext cx="7914960" cy="43196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C5B21-0648-469C-AF38-FE3D1D9CC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6" name="PlaceHolder 2"/>
          <p:cNvSpPr>
            <a:spLocks noGrp="1"/>
          </p:cNvSpPr>
          <p:nvPr>
            <p:ph/>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9D6A75-48C7-482D-A2A7-67D577043B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E0D04-B1EB-432F-9E26-EB4CC3028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42"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E3B90-65A4-4B92-9233-B5FC6BABF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36240"/>
            <a:ext cx="90676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83" name="PlaceHolder 2"/>
          <p:cNvSpPr>
            <a:spLocks noGrp="1"/>
          </p:cNvSpPr>
          <p:nvPr>
            <p:ph type="body"/>
          </p:nvPr>
        </p:nvSpPr>
        <p:spPr>
          <a:xfrm>
            <a:off x="503280" y="1769760"/>
            <a:ext cx="9067680" cy="4530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502920" y="66722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6280" y="667224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4480" y="667224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5E11C-C30C-438C-A3F4-CBFFAD395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A2F1F-9CA5-4B64-B734-84BD0B3A6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5"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8C3429-558F-45CF-97F9-D204B97F5E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6227640"/>
            <a:ext cx="906768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6" name="PlaceHolder 2"/>
          <p:cNvSpPr>
            <a:spLocks noGrp="1"/>
          </p:cNvSpPr>
          <p:nvPr>
            <p:ph type="body"/>
          </p:nvPr>
        </p:nvSpPr>
        <p:spPr>
          <a:xfrm>
            <a:off x="503280" y="791640"/>
            <a:ext cx="9067680" cy="41403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69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6280" y="537696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4480" y="53769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D8FC79-6DA7-463D-94AF-D6868908E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7" name="PlaceHolder 2"/>
          <p:cNvSpPr>
            <a:spLocks noGrp="1"/>
          </p:cNvSpPr>
          <p:nvPr>
            <p:ph type="body"/>
          </p:nvPr>
        </p:nvSpPr>
        <p:spPr>
          <a:xfrm>
            <a:off x="503280" y="2165400"/>
            <a:ext cx="9067680" cy="427824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502920" y="6997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446280" y="6997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7224480" y="6997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C2FAE-EBBE-4703-B595-56967896C6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8" name="PlaceHolder 2"/>
          <p:cNvSpPr>
            <a:spLocks noGrp="1"/>
          </p:cNvSpPr>
          <p:nvPr>
            <p:ph type="body"/>
          </p:nvPr>
        </p:nvSpPr>
        <p:spPr>
          <a:xfrm>
            <a:off x="503280" y="2160720"/>
            <a:ext cx="90676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FF90B-F701-4BCA-803A-63F46D0FFB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19280" y="717480"/>
            <a:ext cx="845496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1079640" y="-1348200"/>
            <a:ext cx="7914960" cy="43196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E7783-D8D1-4A65-BD7A-5671C312A5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03280" y="301680"/>
            <a:ext cx="9069480" cy="61434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ea typeface="Arial Unicode MS"/>
              </a:rPr>
              <a:t>Boston Massacre</a:t>
            </a:r>
            <a:endParaRPr b="0" lang="en-US" sz="3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oey C.</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Tyler V.</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Mike L.</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Haley S.</a:t>
            </a:r>
            <a:endParaRPr b="0" lang="en-US" sz="2200" spc="-1" strike="noStrike">
              <a:solidFill>
                <a:srgbClr val="000000"/>
              </a:solidFill>
              <a:latin typeface="Arial"/>
            </a:endParaRPr>
          </a:p>
          <a:p>
            <a:pPr algn="ct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ffffff"/>
                </a:solidFill>
                <a:latin typeface="Arial"/>
                <a:ea typeface="Arial Unicode MS"/>
              </a:rPr>
              <a:t>Jacob S.</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ffffff"/>
                </a:solidFill>
                <a:latin typeface="Arial"/>
              </a:rPr>
              <a:t>Who Did It Happen To?</a:t>
            </a:r>
            <a:endParaRPr b="1" lang="en-US" sz="4400" spc="-1" strike="noStrike">
              <a:solidFill>
                <a:srgbClr val="ffffff"/>
              </a:solidFill>
              <a:latin typeface="Arial"/>
            </a:endParaRPr>
          </a:p>
        </p:txBody>
      </p:sp>
      <p:sp>
        <p:nvSpPr>
          <p:cNvPr id="371" name="PlaceHolder 2"/>
          <p:cNvSpPr>
            <a:spLocks noGrp="1"/>
          </p:cNvSpPr>
          <p:nvPr>
            <p:ph type="subTitle"/>
          </p:nvPr>
        </p:nvSpPr>
        <p:spPr>
          <a:xfrm>
            <a:off x="502920" y="2165400"/>
            <a:ext cx="9069480" cy="427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conflict started between the British Settlers and the Boston colonists. The people who were killed in this fight were Crispus Attucks a sailor and a slave escape,Samuel Gray a rope maker,James Caldwell a sailor ,Samuel Maverick a 17 year old apprentice,and Patrick Carr a leather worker and Irish immigran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2920" y="30168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373" name="PlaceHolder 2"/>
          <p:cNvSpPr>
            <a:spLocks noGrp="1"/>
          </p:cNvSpPr>
          <p:nvPr>
            <p:ph type="subTitle"/>
          </p:nvPr>
        </p:nvSpPr>
        <p:spPr>
          <a:xfrm>
            <a:off x="998280" y="185076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ile in Boston many colonists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lieved that British government had sent troops to silence it's critics. Both sides disliked each other. Then a colonists got into a fight with a solider. After this the soldier's fired into the crowd killing several peopl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307440"/>
            <a:ext cx="906948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ffffff"/>
                </a:solidFill>
                <a:latin typeface="Arial"/>
              </a:rPr>
              <a:t>When Did It Happen?</a:t>
            </a:r>
            <a:br>
              <a:rPr sz="4400"/>
            </a:br>
            <a:endParaRPr b="0" lang="en-US" sz="4400" spc="-1" strike="noStrike">
              <a:solidFill>
                <a:srgbClr val="000000"/>
              </a:solidFill>
              <a:latin typeface="Arial"/>
            </a:endParaRPr>
          </a:p>
        </p:txBody>
      </p:sp>
      <p:sp>
        <p:nvSpPr>
          <p:cNvPr id="375" name="PlaceHolder 2"/>
          <p:cNvSpPr>
            <a:spLocks noGrp="1"/>
          </p:cNvSpPr>
          <p:nvPr>
            <p:ph type="subTitle"/>
          </p:nvPr>
        </p:nvSpPr>
        <p:spPr>
          <a:xfrm>
            <a:off x="502920" y="2209680"/>
            <a:ext cx="9069480" cy="41896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e Boston Massacre happened on March 5,1770.</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19280" y="717480"/>
            <a:ext cx="845640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377" name="PlaceHolder 2"/>
          <p:cNvSpPr>
            <a:spLocks noGrp="1"/>
          </p:cNvSpPr>
          <p:nvPr>
            <p:ph type="subTitle"/>
          </p:nvPr>
        </p:nvSpPr>
        <p:spPr>
          <a:xfrm>
            <a:off x="1142640" y="914040"/>
            <a:ext cx="7916760" cy="43210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Boston Massacre took place in Bosto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336600"/>
            <a:ext cx="9069480" cy="12636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y Did It Happen,And What Was The Outcome?</a:t>
            </a:r>
            <a:endParaRPr b="0" lang="en-US" sz="4400" spc="-1" strike="noStrike">
              <a:solidFill>
                <a:srgbClr val="000000"/>
              </a:solidFill>
              <a:latin typeface="Arial"/>
            </a:endParaRPr>
          </a:p>
        </p:txBody>
      </p:sp>
      <p:sp>
        <p:nvSpPr>
          <p:cNvPr id="379" name="PlaceHolder 2"/>
          <p:cNvSpPr>
            <a:spLocks noGrp="1"/>
          </p:cNvSpPr>
          <p:nvPr>
            <p:ph type="subTitle"/>
          </p:nvPr>
        </p:nvSpPr>
        <p:spPr>
          <a:xfrm>
            <a:off x="502920" y="1571400"/>
            <a:ext cx="9069480" cy="546876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Boston Massacre occurred because British soldiers were provoked by the colonists of Boston when they threw snowballs at the soldiers. This led to the death 5 colonists when British soldiers panicked and fired shots into the crowd. This all happened because the colonists didn't want the soldiers in their city and were unhappy about the different acts passed by the British. Furthermore, the colonists despised the increased troop concentration in the city of Boston used to enforce the collection of taxes. The British soldiers also took many jobs from the Bostonian 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3:09:17Z</dcterms:created>
  <dc:creator/>
  <dc:description/>
  <dc:language>en-US</dc:language>
  <cp:lastModifiedBy/>
  <dcterms:modified xsi:type="dcterms:W3CDTF">2009-12-17T13:14:39Z</dcterms:modified>
  <cp:revision>10</cp:revision>
  <dc:subject/>
  <dc:title/>
</cp:coreProperties>
</file>