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53990-2213-41E5-89E5-B87D910EE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A514F-7390-4193-9774-9FD487681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9"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F25DE7-1962-4819-8D40-B486B26D17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D027E2-A898-4D14-9B55-6E9EA4985B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5C9649-E26F-48DF-A8A8-54A4C67013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5"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E6A479-4497-42EC-8180-200D464B3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7"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A1AA78-39D4-4016-B921-EB8A689881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6788F7-4533-4ABB-B036-7C2D83B20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244790-933B-4CC5-8AA4-0B51153517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1"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D1A5F5-294A-4BCC-AC8C-563935BA3E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3"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6EF11A-352D-4522-9071-A9A255D2C4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480A3-402D-48BF-8052-588E311F0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64E5B-4F9A-4408-B82C-68030CD2B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FA80B-6781-455A-9F55-EC318DA77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037DD-3521-4721-A02C-D27EDEC56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815F1-5513-4C84-9789-3B78072C6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B09FA-96C5-4940-8A57-1B48F25A6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78F57-7136-4B26-B75D-B5F47A3E8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7263F-EA0B-4D63-8658-83AECCFAE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8F813-2621-4837-9BA0-ECABBA4E0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D41AB-5BCF-4D9D-B99D-9E78B8A06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AB270-50B7-4B8D-B6F4-138A4C9FE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EB282-1EF1-43EF-8348-295378254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2FAD5-2251-4008-96CF-B7197BB23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2989E-1FDA-4F1A-B46D-51E81B280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2A196-F1FA-45F3-A87E-CC2E7844A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B935B9-5070-4616-807B-4615689860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71DD3-B0B6-44A8-8CFE-7717CA5812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560F3-625B-4724-A1FA-21790C490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4AC8E-6707-4A78-A9CC-9FE4E5157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42700F-1BF2-414A-B541-B1BE7C1CC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A7AF5-FE92-447B-ADEB-68F96B1AA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7ABE6-E64E-48CA-8572-712B61814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3B7D9-D870-4ED1-A5E7-554F790C2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35F049-8CE0-45A5-89C1-C7B78980F2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8A5881-BCF7-4475-AF3B-0B5220F83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30E3A-D053-4191-A23A-38A77BF960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42EEB8-EE85-43AE-88A1-57E7E6AEB4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33D6B7-E42D-40FC-A33B-F881BBF9A2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C165D8-DED3-4447-B7B2-7FA1D24884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1F69D-B038-4C94-B42D-1D02EDC7D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18732-CB3A-4F02-A0F9-77E498CB8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792ED-566C-440E-BD70-DFCFEA030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59498-73FA-4D46-8004-072B65E86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B39A55-D01F-40A9-9886-7E933C4CE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70E408-C1A2-4C51-A54E-0637354BC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720F7-C835-4F8E-AFF0-058DEC920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3C576-6D5F-4000-B0E6-40B7F97633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8DEE30-CDC6-4285-ACFC-30B30B9D7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4A7A3-A055-4630-A43B-6CF7D8EF5B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829B08-6012-444B-8A61-C1937603D6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FF0AA9-C660-4EEE-9CE8-F651829096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658D5A-DB87-42E1-A394-63E77A74BD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127F5-7210-4219-94DF-24E04EF6C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EB2686-7A7B-4336-AB11-73B31B100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0ED428-AC89-47A0-9D2A-94D539CC5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7A498C-A5ED-4682-8BF9-6D67971409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5B7C88-044B-486F-97F3-A70B04F89E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4DACDA-E21B-4EAF-BD21-78867149B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1D18C-93C4-4C12-920D-EDDA2F503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BC21F-DB1A-468A-8DC6-B692FC3D1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4AC7E-5283-478C-8BEC-41FCD60EA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F02216-4FD1-423F-BB6C-DE1860B92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203BA8-B332-4D19-9913-45E763B46A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43F45-E70C-4C17-B3B6-F606D76F9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B686D7-7CAF-4949-86AF-044E3A3D0C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730819-602D-4089-B574-C7218A57AD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402FFC-81F0-4EF1-81FA-A9C19BEC4C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3"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6EA74F-BD63-436E-93F2-399623C058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373E6E-37F2-4874-8F8C-1E3D5B297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246B94-AAC8-4801-8897-EA0897D85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302352-C73F-4F61-BCBE-0480FBE78E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72E33-13C3-415C-82C0-E175EAA5A9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E4462-4299-4F8B-8510-83D7B6AA9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BE61B-72B7-4AF0-BB9A-DF1C7DD3C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18B9-5097-4F6A-AFD3-5A8527553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AA27A4-B703-4C3C-AE15-CE03CD847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790278-6AD6-484C-9928-74A0A1BE04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50C3FB-B38A-4EDB-BEC7-4875582844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318D8D-0A28-447F-9377-4848EBA1CF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5FDC92-509D-41A4-B2FE-AA323919E0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E36619-37B0-42E5-8740-3320AC91F1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F5B2D5-3EC6-499C-8578-16C487A9F4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4FA045-7531-4148-BCB5-2892A68427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7B7575-FEDB-4B50-918E-811504062F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3"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86382-ACF6-449A-86C4-454F5A2A6F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73FB9-88A7-4E34-8131-0C60A3186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5"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B43E11-31A6-447F-8D0C-4A2EDA94E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9"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0"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21ECBB-E826-48BA-863E-9BF51CB2E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3"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4"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AFE912-23E1-41D2-A03F-1579DADE20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235D47-5665-483F-B50F-F698D5D9DE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D410DE-4869-447D-B23D-35ED41A6D8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EC5AD7-1A1D-47AA-987E-47C4618D85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C33BDA-CF99-4D49-BE80-EFF8457DFE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37A0F3-3FC2-4586-86D4-E8E6362427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58B7B1-2BBC-42F3-A381-34EEA1DF34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1926C3-7B4D-41ED-B882-1E73411CBC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2959-0566-4696-8686-146E54C41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9F1E13-6370-4DEA-B0DE-1E87A8D13F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2"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B4D05-AF48-4F26-8241-4B46D2218D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6"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8"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C0E260-4FD2-4018-A072-F5754238A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2"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595B3-BE55-4B8F-BA79-DC05474157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DD3CCB-2679-4E66-9B03-FD2BD4FAEA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61578B-CD90-4CAA-A159-972892C0EB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2"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77A90F-24E9-4CC3-8A8C-CD3F24BE68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199631-ECB4-449F-AC19-7D55E916B5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CE1BC1-B1F6-4565-A118-DD423EF92E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6"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2D25DD-4D68-4967-BDCA-3D1DE4D41C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9993F4-B259-436C-B4C8-EB4206B5C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36240"/>
            <a:ext cx="90676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42" name="PlaceHolder 2"/>
          <p:cNvSpPr>
            <a:spLocks noGrp="1"/>
          </p:cNvSpPr>
          <p:nvPr>
            <p:ph type="body"/>
          </p:nvPr>
        </p:nvSpPr>
        <p:spPr>
          <a:xfrm>
            <a:off x="503280" y="1769760"/>
            <a:ext cx="9067680" cy="4530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2920" y="66722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6280" y="667224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4480" y="667224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7D506F-1101-485A-8B78-994DE4A4B6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336240"/>
            <a:ext cx="90676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83" name="PlaceHolder 2"/>
          <p:cNvSpPr>
            <a:spLocks noGrp="1"/>
          </p:cNvSpPr>
          <p:nvPr>
            <p:ph type="body"/>
          </p:nvPr>
        </p:nvSpPr>
        <p:spPr>
          <a:xfrm>
            <a:off x="503280" y="1769760"/>
            <a:ext cx="9067680" cy="4530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502920" y="66722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6280" y="667224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4480" y="667224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5758D-401D-4D8A-8E0B-42F7344AF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4"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C047D-57F8-445D-A50D-0D0A6F84E7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5"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F98B9C-2C36-4A47-875D-2EDFE74FD9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6227640"/>
            <a:ext cx="906768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06" name="PlaceHolder 2"/>
          <p:cNvSpPr>
            <a:spLocks noGrp="1"/>
          </p:cNvSpPr>
          <p:nvPr>
            <p:ph type="body"/>
          </p:nvPr>
        </p:nvSpPr>
        <p:spPr>
          <a:xfrm>
            <a:off x="503280" y="791640"/>
            <a:ext cx="9067680" cy="414036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502920" y="537696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446280" y="537696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7224480" y="537696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B0CDD-9D25-44BF-8483-ED4DCFAEB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47" name="PlaceHolder 2"/>
          <p:cNvSpPr>
            <a:spLocks noGrp="1"/>
          </p:cNvSpPr>
          <p:nvPr>
            <p:ph type="body"/>
          </p:nvPr>
        </p:nvSpPr>
        <p:spPr>
          <a:xfrm>
            <a:off x="503280" y="2165400"/>
            <a:ext cx="9067680" cy="427824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502920" y="6997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446280" y="6997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7224480" y="6997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BBA55-74F4-453C-AA2B-202DC66DA8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8" name="PlaceHolder 2"/>
          <p:cNvSpPr>
            <a:spLocks noGrp="1"/>
          </p:cNvSpPr>
          <p:nvPr>
            <p:ph type="body"/>
          </p:nvPr>
        </p:nvSpPr>
        <p:spPr>
          <a:xfrm>
            <a:off x="503280" y="2160720"/>
            <a:ext cx="9067680" cy="45972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1883A-7766-4A5B-86EA-DDA79B63C0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31" name="PlaceHolder 4"/>
          <p:cNvSpPr>
            <a:spLocks noGrp="1"/>
          </p:cNvSpPr>
          <p:nvPr>
            <p:ph type="ftr" idx="26"/>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8A7C6C-A36E-4587-AF4D-F8BB896096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8.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503280" y="301680"/>
            <a:ext cx="9069480" cy="614340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ea typeface="Arial Unicode MS"/>
              </a:rPr>
              <a:t>Boston Massacre</a:t>
            </a:r>
            <a:endParaRPr b="0" lang="en-US" sz="3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Joey C.</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Tyler V.</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Mike L.</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Haley S.</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Jacob S.</a:t>
            </a:r>
            <a:endParaRPr b="0" lang="en-US" sz="2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ffffff"/>
                </a:solidFill>
                <a:latin typeface="Arial"/>
              </a:rPr>
              <a:t>Who Did It Happen To?</a:t>
            </a:r>
            <a:endParaRPr b="1" lang="en-US" sz="4400" spc="-1" strike="noStrike">
              <a:solidFill>
                <a:srgbClr val="ffffff"/>
              </a:solidFill>
              <a:latin typeface="Arial"/>
            </a:endParaRPr>
          </a:p>
        </p:txBody>
      </p:sp>
      <p:sp>
        <p:nvSpPr>
          <p:cNvPr id="371" name="PlaceHolder 2"/>
          <p:cNvSpPr>
            <a:spLocks noGrp="1"/>
          </p:cNvSpPr>
          <p:nvPr>
            <p:ph type="subTitle"/>
          </p:nvPr>
        </p:nvSpPr>
        <p:spPr>
          <a:xfrm>
            <a:off x="502920" y="2165400"/>
            <a:ext cx="9069480" cy="42796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conflict started between the British Settlers and the Boston colonists. The people who were killed in this fight were Crispus Attucks a sailor and a slave escape,Samuel Gray a rope maker,James Caldwell a sailor ,Samuel Maverick a 17 year old apprentice,and Patrick Carr a leather worker and Irish immigrant.</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at Happened?</a:t>
            </a:r>
            <a:endParaRPr b="0" lang="en-US" sz="4400" spc="-1" strike="noStrike">
              <a:solidFill>
                <a:srgbClr val="000000"/>
              </a:solidFill>
              <a:latin typeface="Arial"/>
            </a:endParaRPr>
          </a:p>
        </p:txBody>
      </p:sp>
      <p:sp>
        <p:nvSpPr>
          <p:cNvPr id="373" name="PlaceHolder 2"/>
          <p:cNvSpPr>
            <a:spLocks noGrp="1"/>
          </p:cNvSpPr>
          <p:nvPr>
            <p:ph type="subTitle"/>
          </p:nvPr>
        </p:nvSpPr>
        <p:spPr>
          <a:xfrm>
            <a:off x="998280" y="1850760"/>
            <a:ext cx="7916760" cy="43210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ile in Boston many colonists </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elieved that British government had sent troops to silence it's critics. Both sides disliked each other. Then a colonists got into a fight with a solider. After this the soldier's fired into the crowd killing several peopl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000080"/>
            </a:gs>
            <a:gs pos="100000">
              <a:srgbClr val="800000"/>
            </a:gs>
          </a:gsLst>
          <a:lin ang="36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307440"/>
            <a:ext cx="906948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When Did It Happen?</a:t>
            </a:r>
            <a:br>
              <a:rPr sz="4400"/>
            </a:br>
            <a:endParaRPr b="0" lang="en-US" sz="4400" spc="-1" strike="noStrike">
              <a:solidFill>
                <a:srgbClr val="000000"/>
              </a:solidFill>
              <a:latin typeface="Arial"/>
            </a:endParaRPr>
          </a:p>
        </p:txBody>
      </p:sp>
      <p:sp>
        <p:nvSpPr>
          <p:cNvPr id="375" name="PlaceHolder 2"/>
          <p:cNvSpPr>
            <a:spLocks noGrp="1"/>
          </p:cNvSpPr>
          <p:nvPr>
            <p:ph type="subTitle"/>
          </p:nvPr>
        </p:nvSpPr>
        <p:spPr>
          <a:xfrm>
            <a:off x="502920" y="2209680"/>
            <a:ext cx="9069480" cy="41896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Boston Massacre happened on March 5,1770.</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19280" y="717480"/>
            <a:ext cx="845640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Arial"/>
              </a:rPr>
              <a:t>Where Did It Happen?</a:t>
            </a:r>
            <a:endParaRPr b="0" lang="en-US" sz="4400" spc="-1" strike="noStrike">
              <a:solidFill>
                <a:srgbClr val="000000"/>
              </a:solidFill>
              <a:latin typeface="Arial"/>
            </a:endParaRPr>
          </a:p>
        </p:txBody>
      </p:sp>
      <p:sp>
        <p:nvSpPr>
          <p:cNvPr id="377" name="PlaceHolder 2"/>
          <p:cNvSpPr>
            <a:spLocks noGrp="1"/>
          </p:cNvSpPr>
          <p:nvPr>
            <p:ph type="subTitle"/>
          </p:nvPr>
        </p:nvSpPr>
        <p:spPr>
          <a:xfrm>
            <a:off x="1142640" y="914040"/>
            <a:ext cx="7916760" cy="43210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Boston Massacre took place in Bosto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33660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y Did It Happen,And What Was The Outcome?</a:t>
            </a:r>
            <a:endParaRPr b="0" lang="en-US" sz="4400" spc="-1" strike="noStrike">
              <a:solidFill>
                <a:srgbClr val="000000"/>
              </a:solidFill>
              <a:latin typeface="Arial"/>
            </a:endParaRPr>
          </a:p>
        </p:txBody>
      </p:sp>
      <p:sp>
        <p:nvSpPr>
          <p:cNvPr id="379" name="PlaceHolder 2"/>
          <p:cNvSpPr>
            <a:spLocks noGrp="1"/>
          </p:cNvSpPr>
          <p:nvPr>
            <p:ph type="subTitle"/>
          </p:nvPr>
        </p:nvSpPr>
        <p:spPr>
          <a:xfrm>
            <a:off x="502920" y="1571400"/>
            <a:ext cx="9069480" cy="546876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Boston Massacre occurred because British soldiers were provoked by the colonists of Boston when they threw snowballs at the soldiers. This led to the death 5 colonists when British soldiers panicked and fired shots into the crowd. This all happened because the colonists didn't want the soldiers in their city and were unhappy about the different acts passed by the British. Furthermore, the colonists despised the increased troop concentration in the city of Boston used to enforce the collection of taxes. The British soldiers also took many jobs from the Bostonian 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3:09:17Z</dcterms:created>
  <dc:creator/>
  <dc:description/>
  <dc:language>en-US</dc:language>
  <cp:lastModifiedBy/>
  <dcterms:modified xsi:type="dcterms:W3CDTF">2009-12-17T13:14:39Z</dcterms:modified>
  <cp:revision>10</cp:revision>
  <dc:subject/>
  <dc:title/>
</cp:coreProperties>
</file>